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7/16/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se performance degrading o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/etc/passwd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magic script usage; explain strict locking, reference items such as MS Access file locking and similar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al notes on the abundance of user/developer feedback, describe personal experiences on questions and answer sessions, direct developer su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7268-BDE7-4FB6-8BF5-2AEAC5AC6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9B66-247E-47FF-8870-6202BA65C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51A5-7D4C-4095-AD98-957D6C365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16C9-C5A8-4DF2-915B-5351A1789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5B776-FD88-4FC3-B085-F30601E5F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F7724-4F83-49F5-B099-C8CF704C1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28213-4667-4F08-822C-48840AC9A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8E4E0-5D31-4308-B8A7-D52E9E3A6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8576B-5DCA-4241-B12C-410021688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AE2BE-ED0D-4622-A997-245892787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A2B42-EA77-42B7-9281-1F68C7B6B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6C79-DF38-45A4-BACB-A4F3E2A18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D465C-D8CF-4E86-8003-824001A1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DEED6-BE91-4BEB-A1B6-1DC3D2A7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6817F-7B65-4A94-946F-6EE216731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5B856-FD41-427D-AD5B-142259304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271DA-64CB-40CC-ABF2-9042C14CE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8833-A9C6-4825-AF73-8882E844E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A832-17CE-4DF4-A901-C8A9C4C56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E0F1-39CD-4BFA-9EE7-1ACE4CF27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BF02-6289-4F3A-9117-48BC7687D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CFDE-1954-43C0-9142-85060CB9A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39E5-BCB9-4CFC-8B2F-A7EC92C12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DAD7-7E84-4DBD-B8FF-1AB91780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61C7D-4597-4C1D-BD71-2B9E682F0C4B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F36A7-D2AF-4A12-BA24-69FAD4D31B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A22CB-F046-4711-A0F6-7DE1416E6F7D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3525D-AF3C-4386-B0BC-BFA69E0304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amba Integr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rian Robers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LUG meeting, April 1999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083DBEA9-C08B-4400-A5B3-FCA516070B77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706750-B316-45B6-8E8A-41449D61CD7B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erv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another SMB server for authentic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query fails, reverts to security = 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encrypted passwords were negotiated, will not revert to use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3BC39C-FD12-4357-92C4-1A070AB31334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FA9933-7C2B-4144-9EDD-7F45F4383FFC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domai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ill only work if `smbpasswd` was used to add machine to a 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nly accepts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alidates users exactly the same as NT does, against a PDC or BDC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urrent problem with multi-byte character set usernam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7659C9-5DD0-4D69-AFFF-90707EC12A68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nfiguration File Layou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pecial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ice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F6FEE9-43A1-40A5-8264-ABF45197B0BD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pecial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global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home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printer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695688-E80A-480F-A050-863577C5C54C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global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ptions apply to server as a who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ny service parameter can be specified in the global section, they will serve as the ‘default’ for all servic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ad time &amp; keep alive, widelinks &amp; getwd cache, socket options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0F70B6-BCA5-4DFE-AC6E-22C252A632D7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home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hen connection request is made, If no match is found, its treated as a username and looked up in the local /etc/password file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guest access is specified, all home directories are visi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63EF9D-EAE1-4A0F-B538-840900432633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printer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nection sequence; scan existing sections, if [homes] section exists, used as previously described, request then treated as printer name and appropriate printcap file is scanned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e to use `lpstat` in place of /etc/printcap ( SYSV / LPRng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4A4DE1-42CF-44A2-B6B0-C20744E03606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Ordinary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7D86E2-ED32-46F6-B743-275ED2E4388B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tegration Of Samb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uthentication schem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figuration File Layou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s ( Services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BB4930-E3F7-44F7-ADE6-5459AF20F92F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whatever you want to show up as a comment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synonym for “guest ok” ( allow this share to be readable by other than valid users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ublic = no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se people are allowed to read (open)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name1, name 2, @group2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these people are in @group2 but we don’t want to give them acces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nvalid users = name3, name5, @group1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llow this service to be written to, by valid 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is is not a printable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who is allowed to write to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e list = name1, @group2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 next two options are to change the Unix modes when files/directories are made.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file creation ( we want the group to be able to edit it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create mode = 0660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directory made in this share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( we want the group to be able to get it/change it, and world `cd`abl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directory mode = 077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91FDFD-FBCB-4D5E-ABA9-91E06F38E4DE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2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servicename2, put you want he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uest ok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@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fter mapping from DOS modes to UNIX permissions, bit-wise `AND`ed  the permissions with these valu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default create mask is: 0744 , default directory create mask is: 075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 e.g. we want these to be read/written/viewed by user only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irectory 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918A97-E036-42D1-9FB4-716920770E88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lete readonl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eto fil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styp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magic scrip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trict lockin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26A48A-5728-4F3D-A5D0-646FA60172EA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QUESTIONS &amp; ANSW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 are your frien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enty of online document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y the best user/developer suppor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AE8AD0-6EA6-42CA-9F71-2DEAACA6C10E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ttp://www.samba.or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cumentation in the source cod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17A52D-33DA-448A-8771-7432699F89FF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6C77A6-FB35-450C-83EC-FF3E506EB22A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E3B321-9D77-40DB-AE3B-C00DBA1DF285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har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revious versions, this was defaul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amba always uses a valid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ral techniques to determine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user cant be determined, the “guest” account if supplied gets use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7736EB-B9C9-4FE6-9DC6-276B58B5FEEB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8498A3-0ED5-4746-A3F1-25ACD018D7C5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us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fault selection in 2.0.x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 must “logon” to gain access to a 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ncrypted passwords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ee next two slid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4CB28B-E4CA-4473-8DC3-D967AEE25233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eparate password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assword storage is not one way crypt like standard UNIX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95 OSR2, NT4sp3 &amp; up, default’s to only send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ain text passwords are never sent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2DA517-E396-40D5-9665-BEBEDE96B6C9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pecial registry entry on client (win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/etc/passwd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nds plain text passwords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sure if future win-X will support this fea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1E4302-ACA2-4F67-BE71-BFAFD246F276}" type="datetime1">
              <a:rPr lang="en-US"/>
              <a:t>07/29/26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7T08:14:35Z</dcterms:created>
  <dc:creator>Brian Roberson</dc:creator>
  <dc:description/>
  <cp:keywords>Brief Samba Presentation</cp:keywords>
  <dc:language>en-US</dc:language>
  <cp:lastModifiedBy>Brian Roberson</cp:lastModifiedBy>
  <dcterms:modified xsi:type="dcterms:W3CDTF">1999-04-19T01:16:12Z</dcterms:modified>
  <cp:revision>13</cp:revision>
  <dc:subject>Overview of Options</dc:subject>
  <dc:title>Samba Integ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bstc.net/~brian</vt:lpwstr>
  </property>
  <property fmtid="{D5CDD505-2E9C-101B-9397-08002B2CF9AE}" pid="9" name="LinkColor">
    <vt:r8>16711782</vt:r8>
  </property>
  <property fmtid="{D5CDD505-2E9C-101B-9397-08002B2CF9AE}" pid="10" name="MailAddress">
    <vt:lpwstr>brian@bstc.net</vt:lpwstr>
  </property>
  <property fmtid="{D5CDD505-2E9C-101B-9397-08002B2CF9AE}" pid="11" name="NavBtnPos">
    <vt:r8>3</vt:r8>
  </property>
  <property fmtid="{D5CDD505-2E9C-101B-9397-08002B2CF9AE}" pid="12" name="Other">
    <vt:lpwstr>OLUG presentation</vt:lpwstr>
  </property>
  <property fmtid="{D5CDD505-2E9C-101B-9397-08002B2CF9AE}" pid="13" name="OutputDir">
    <vt:lpwstr>\\Beast\html\slides</vt:lpwstr>
  </property>
  <property fmtid="{D5CDD505-2E9C-101B-9397-08002B2CF9AE}" pid="14" name="Owner">
    <vt:lpwstr>PUBLIC-GNU-GPL</vt:lpwstr>
  </property>
  <property fmtid="{D5CDD505-2E9C-101B-9397-08002B2CF9AE}" pid="15" name="Purpose">
    <vt:lpwstr>OLUG Meeting, April 1999</vt:lpwstr>
  </property>
  <property fmtid="{D5CDD505-2E9C-101B-9397-08002B2CF9AE}" pid="16" name="Reference">
    <vt:lpwstr>Man Pages, source code</vt:lpwstr>
  </property>
  <property fmtid="{D5CDD505-2E9C-101B-9397-08002B2CF9AE}" pid="17" name="ScreenSize">
    <vt:r8>1</vt:r8>
  </property>
  <property fmtid="{D5CDD505-2E9C-101B-9397-08002B2CF9AE}" pid="18" name="ScreenUsage">
    <vt:r8>1</vt:r8>
  </property>
  <property fmtid="{D5CDD505-2E9C-101B-9397-08002B2CF9AE}" pid="19" name="ShowNotes">
    <vt:bool>0</vt:bool>
  </property>
  <property fmtid="{D5CDD505-2E9C-101B-9397-08002B2CF9AE}" pid="20" name="Source">
    <vt:lpwstr>Samba Man Pages, and various other documentation included in the samba source code</vt:lpwstr>
  </property>
  <property fmtid="{D5CDD505-2E9C-101B-9397-08002B2CF9AE}" pid="21" name="TemplateType">
    <vt:r8>1</vt:r8>
  </property>
  <property fmtid="{D5CDD505-2E9C-101B-9397-08002B2CF9AE}" pid="22" name="TextColor">
    <vt:r8>0</vt:r8>
  </property>
  <property fmtid="{D5CDD505-2E9C-101B-9397-08002B2CF9AE}" pid="23" name="TransparentButton">
    <vt:r8>0</vt:r8>
  </property>
  <property fmtid="{D5CDD505-2E9C-101B-9397-08002B2CF9AE}" pid="24" name="UseBrowserColor">
    <vt:bool>1</vt:bool>
  </property>
  <property fmtid="{D5CDD505-2E9C-101B-9397-08002B2CF9AE}" pid="25" name="VisitedColor">
    <vt:r8>10040268</vt:r8>
  </property>
</Properties>
</file>