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605-6357-4AF5-9397-9ADD4E71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A45-AC46-4D69-886B-0C68550B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5D9E-C437-4735-8C37-37A4A372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AAB-BC25-4821-878A-11DF80B8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DFA8-2492-4C09-A67A-7EF82CE3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71080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42680" y="162828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71080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242680" y="4110840"/>
            <a:ext cx="24109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213-66C6-48D5-9213-E12A9095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8CB9-61FD-45F2-9461-176CABC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71EF-554E-4E94-AF0E-56A20E10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78920" y="765000"/>
            <a:ext cx="7488360" cy="33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3E6-450A-4F9F-BE71-E54EB18C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587-776E-40EF-B808-D4E464F5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16160" y="411084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2A2-8D34-442C-8FD9-E0FBCF62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16160" y="1628280"/>
            <a:ext cx="3654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8920" y="4110840"/>
            <a:ext cx="7488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8DE-A95A-4DD7-93FE-9BC9371C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579640" y="6524280"/>
            <a:ext cx="156204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CA2C93C-CCF3-406A-8637-ABD0636A57D7}" type="datetime5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78920" y="6524280"/>
            <a:ext cx="5264280" cy="152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308720" y="6524280"/>
            <a:ext cx="432000" cy="144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F46109A9-FBF5-4D7D-A0BD-2C5C13ACAD3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50520" y="18900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840" indent="-25560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653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228600" y="152280"/>
            <a:ext cx="4876920" cy="320760"/>
          </a:xfrm>
          <a:prstGeom prst="rect">
            <a:avLst/>
          </a:prstGeom>
          <a:solidFill>
            <a:srgbClr val="006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71294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Click to edit the title text format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48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Presentation Title (not the current page titl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35760" y="0"/>
            <a:ext cx="1308240" cy="6858000"/>
          </a:xfrm>
          <a:prstGeom prst="rect">
            <a:avLst/>
          </a:prstGeom>
          <a:solidFill>
            <a:srgbClr val="c0d8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56720" y="6165720"/>
            <a:ext cx="104904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8520" indent="0" algn="ctr">
              <a:spcBef>
                <a:spcPts val="675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7796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57400" indent="123840" algn="ctr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23148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2314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503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Resampling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2637000"/>
            <a:ext cx="7129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 1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57200" y="3429000"/>
            <a:ext cx="6781680" cy="372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155-B980-4A44-9FAC-1DBD869438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DBB98-7D9B-424C-B909-FFE45A4A35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 usage of real ‘resample’ fun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533520" y="2971800"/>
            <a:ext cx="9296640" cy="511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5FBF-F5C6-4897-848F-20686EF7FA4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6D910-7AF5-43C2-8F90-353036F889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609480" y="3124080"/>
            <a:ext cx="9448560" cy="5197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004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962520" y="5791320"/>
            <a:ext cx="121896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59260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below 1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62CA-F474-45FF-AE9F-D17A698ED1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2FE86-4143-435D-86EF-464449A980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Theor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628640"/>
            <a:ext cx="7821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ipt version of Atmel AVR32 DSP resample function without the FIR Calculation stage (Matlab compute FIR coeffici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2 Kh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,51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518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dB gain obtained at 17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533520" y="3276720"/>
            <a:ext cx="8001000" cy="440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5791320"/>
            <a:ext cx="6094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257440" y="5638680"/>
            <a:ext cx="16765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257800"/>
            <a:ext cx="518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in is around -6dB due to reduction of filter bandwith 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013-D262-4F6A-99A9-21E6505B139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6261E-DD53-40ED-B483-5423EDDFBB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60aa"/>
                </a:solidFill>
                <a:latin typeface="Arial Black"/>
              </a:rPr>
              <a:t>Analysis</a:t>
            </a:r>
            <a:endParaRPr b="1" lang="en-US" sz="24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488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751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Ste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Use Atmel AVR32 DSP resample function with precalculated Matlab filter coefficients and compare the two resul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1A8-7359-4F6F-9641-DDE28C17FD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1C74D-064B-448C-90BE-DA209095CF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) Embedded release of Atmel AVR32 DSP resample function without the FIR Calculation stage (Matlab compute FIR coefficient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52280" y="3276720"/>
            <a:ext cx="6858000" cy="3771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365760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3580920"/>
            <a:ext cx="121896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312408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045D-AFFE-4C4D-BF3D-7F31294CC1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2F3BA-71AC-4C68-A30C-B94D38DEA6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5486400" cy="4116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 bis) Embedded release of Atmel AVR32 DSP resample function with Atmel AVR32 DSP FIR Calculation stag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,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4191120"/>
            <a:ext cx="1143000" cy="457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3580920"/>
            <a:ext cx="152388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276720"/>
            <a:ext cx="137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 temporal shift is observed, same frequency f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342900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63de8"/>
                </a:solidFill>
                <a:latin typeface="Arial"/>
              </a:rPr>
              <a:t>Script resul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mbedded 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BAE0-48DE-4362-8E7A-D7AC232FC0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752A4-1007-4873-BD8D-579975D04F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44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8.510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355920"/>
            <a:ext cx="6368760" cy="3502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400800" y="5334120"/>
            <a:ext cx="3048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the band = -21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c (-3dB) = 17.8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9529400">
            <a:off x="7086960" y="3580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Filter order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3CCE-22DA-40AD-A1EE-AE1F86BAC4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E8345-D213-4DAC-891F-0C3396E0B4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765000"/>
            <a:ext cx="748836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800" spc="-1" strike="noStrike">
                <a:solidFill>
                  <a:srgbClr val="0060aa"/>
                </a:solidFill>
                <a:latin typeface="Arial Black"/>
              </a:rPr>
              <a:t>Practical Analysis</a:t>
            </a:r>
            <a:endParaRPr b="1" lang="en-US" sz="2800" spc="-1" strike="noStrike">
              <a:solidFill>
                <a:srgbClr val="0060aa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821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9120" indent="-249120">
              <a:spcBef>
                <a:spcPts val="675"/>
              </a:spcBef>
              <a:buClr>
                <a:srgbClr val="0060aa"/>
              </a:buClr>
              <a:buSzPct val="120000"/>
              <a:buFont typeface="Wingdings" charset="2"/>
              <a:buChar char="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bis) Compute the filter response of Atmel AVR32 DSP resample function  in the frequency range [0;20Khz]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2696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ple 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: [0;20Khz]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 signal frequency sampling : 32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9836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 signal frequency sampling : 44.1 Kh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49120" indent="0">
              <a:spcBef>
                <a:spcPts val="675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379680"/>
            <a:ext cx="6324480" cy="347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AEC-E7E4-4A46-B2AC-12AD572F98B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5C45B-0306-442A-8140-1D7E034986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3:54:07Z</dcterms:created>
  <dc:creator/>
  <dc:description/>
  <cp:keywords/>
  <dc:language>en-US</dc:language>
  <cp:lastModifiedBy>user</cp:lastModifiedBy>
  <cp:lastPrinted>2000-07-25T13:03:26Z</cp:lastPrinted>
  <dcterms:modified xsi:type="dcterms:W3CDTF">2009-03-30T16:58:28Z</dcterms:modified>
  <cp:revision>237</cp:revision>
  <dc:subject/>
  <dc:title>Resampling Analysis</dc:title>
</cp:coreProperties>
</file>