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1.jpeg" ContentType="image/jpeg"/>
  <Override PartName="/ppt/media/image23.wmf" ContentType="image/x-wmf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image4.jpeg" ContentType="image/jpeg"/>
  <Override PartName="/ppt/media/image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25.wmf" ContentType="image/x-wmf"/>
  <Override PartName="/ppt/media/image1.wmf" ContentType="image/x-wmf"/>
  <Override PartName="/ppt/media/image2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9EFB-E7FB-4207-80E6-2FB325A86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4883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78920" y="4110840"/>
            <a:ext cx="74883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DE2F-C2BF-47D8-9D8E-BF8F157B0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16160" y="162828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78920" y="411084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016160" y="411084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BD3A-60B6-4E4E-B21E-2673AE608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2410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710800" y="1628280"/>
            <a:ext cx="2410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242680" y="1628280"/>
            <a:ext cx="2410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78920" y="4110840"/>
            <a:ext cx="2410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2710800" y="4110840"/>
            <a:ext cx="2410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242680" y="4110840"/>
            <a:ext cx="2410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D310-52B3-490B-8018-8F3F1053F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78920" y="1628280"/>
            <a:ext cx="74883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488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3654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016160" y="1628280"/>
            <a:ext cx="3654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78920" y="765000"/>
            <a:ext cx="748836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016160" y="1628280"/>
            <a:ext cx="3654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8920" y="411084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78920" y="1628280"/>
            <a:ext cx="74883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8BE2-4F0D-44CA-9449-54E647C96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3654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016160" y="162828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016160" y="411084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016160" y="162828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78920" y="4110840"/>
            <a:ext cx="74883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4883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78920" y="4110840"/>
            <a:ext cx="74883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016160" y="162828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78920" y="411084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016160" y="411084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2410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710800" y="1628280"/>
            <a:ext cx="2410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242680" y="1628280"/>
            <a:ext cx="2410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78920" y="4110840"/>
            <a:ext cx="2410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2710800" y="4110840"/>
            <a:ext cx="2410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242680" y="4110840"/>
            <a:ext cx="2410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488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629E-B09A-4209-B248-B3B3F2068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3654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016160" y="1628280"/>
            <a:ext cx="3654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3B95-5952-4151-A561-2C960AF2C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3537-6EB5-44EC-8511-0B23FB080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78920" y="765000"/>
            <a:ext cx="748836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2972-AA6E-4B7E-A973-1F1111DB3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16160" y="1628280"/>
            <a:ext cx="3654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78920" y="411084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8296-D46C-4E8D-9842-A62A08B53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3654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16160" y="162828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016160" y="411084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1B5F-2280-44B9-8327-FC69C6F34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016160" y="162828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78920" y="4110840"/>
            <a:ext cx="74883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D780-5977-4B45-AF26-BCBFBF5D1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579640" y="6524280"/>
            <a:ext cx="1562040" cy="1522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178920" y="6524280"/>
            <a:ext cx="5264280" cy="1522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308720" y="6524280"/>
            <a:ext cx="432000" cy="1443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fld id="{BD38E280-D248-404E-8054-1BC3E3292E8C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50520" y="18900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835760" y="0"/>
            <a:ext cx="1308240" cy="6858000"/>
          </a:xfrm>
          <a:prstGeom prst="rect">
            <a:avLst/>
          </a:prstGeom>
          <a:solidFill>
            <a:srgbClr val="a6c8e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400" spc="-1" strike="noStrike">
                <a:solidFill>
                  <a:srgbClr val="0060aa"/>
                </a:solidFill>
                <a:latin typeface="Arial Black"/>
              </a:rPr>
              <a:t>Click to edit the title text format</a:t>
            </a: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78920" y="1628280"/>
            <a:ext cx="7488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840" indent="-25560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82880" indent="-2653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82880" indent="-2653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82880" indent="-2653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7956720" y="6165720"/>
            <a:ext cx="1049040" cy="486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508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189000" y="189000"/>
            <a:ext cx="532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Stage de fin d’études – Blaise LENGR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50520" y="80964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835760" y="0"/>
            <a:ext cx="1308240" cy="6858000"/>
          </a:xfrm>
          <a:prstGeom prst="rect">
            <a:avLst/>
          </a:prstGeom>
          <a:solidFill>
            <a:srgbClr val="a6c8e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981000"/>
            <a:ext cx="71294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800" spc="-1" strike="noStrike">
                <a:solidFill>
                  <a:srgbClr val="0060aa"/>
                </a:solidFill>
                <a:latin typeface="Arial Black"/>
              </a:rPr>
              <a:t>Click to edit the title text format</a:t>
            </a:r>
            <a:endParaRPr b="1" lang="en-US" sz="2800" spc="-1" strike="noStrike">
              <a:solidFill>
                <a:srgbClr val="0060aa"/>
              </a:solidFill>
              <a:latin typeface="Arial Black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956720" y="6165720"/>
            <a:ext cx="1049040" cy="486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50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50920" y="189000"/>
            <a:ext cx="4895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41440" y="6667560"/>
            <a:ext cx="4419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49120"/>
                <a:tab algn="l" pos="500040"/>
                <a:tab algn="l" pos="749160"/>
                <a:tab algn="l" pos="1000080"/>
                <a:tab algn="l" pos="1249200"/>
                <a:tab algn="l" pos="1500120"/>
                <a:tab algn="l" pos="1749600"/>
                <a:tab algn="l" pos="2000160"/>
                <a:tab algn="l" pos="2249640"/>
                <a:tab algn="l" pos="2500200"/>
                <a:tab algn="l" pos="2749680"/>
                <a:tab algn="l" pos="30002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VR32 UC3000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8520" indent="0" algn="ctr">
              <a:spcBef>
                <a:spcPts val="675"/>
              </a:spcBef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77960" indent="123840" algn="ctr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157400" indent="123840" algn="ctr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486080" indent="23148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486080" indent="2314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486080" indent="2314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981000"/>
            <a:ext cx="712944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800" spc="-1" strike="noStrike">
                <a:solidFill>
                  <a:srgbClr val="0060aa"/>
                </a:solidFill>
                <a:latin typeface="Arial Black"/>
              </a:rPr>
              <a:t>Conception d’une librairie de traitement du signal </a:t>
            </a:r>
            <a:br>
              <a:rPr sz="2800"/>
            </a:br>
            <a:r>
              <a:rPr b="1" i="1" lang="fr-FR" sz="2800" spc="-1" strike="noStrike">
                <a:solidFill>
                  <a:srgbClr val="0060aa"/>
                </a:solidFill>
                <a:latin typeface="Arial Black"/>
              </a:rPr>
              <a:t>optimisée pour l’AVR32 UC3</a:t>
            </a:r>
            <a:endParaRPr b="1" lang="en-US" sz="28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68360" y="3716280"/>
            <a:ext cx="7129440" cy="29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Atmel Nantes S.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Blaise LENGRAND – 2007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400" spc="-1" strike="noStrike">
                <a:solidFill>
                  <a:srgbClr val="0060aa"/>
                </a:solidFill>
                <a:latin typeface="Arial Black"/>
              </a:rPr>
              <a:t>Spécifications de la DSPLib (2)</a:t>
            </a: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488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Fonctions – séparées en 2 librair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ibrairie basiq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Operateu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Vecteu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Filt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ransformé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Fenêtr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Génération de signaux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ébog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ibrairie avancé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mpression 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(ADPCM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Téléphonie 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(CallerId, CAG, …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Régulateur 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(PI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9120"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320A-37CA-43A2-820A-B02F7FEFD45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i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400" spc="-1" strike="noStrike">
                <a:solidFill>
                  <a:srgbClr val="0060aa"/>
                </a:solidFill>
                <a:latin typeface="Arial Black"/>
              </a:rPr>
              <a:t>Spécifications de la DSPLib (3)</a:t>
            </a: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488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-249120">
              <a:spcBef>
                <a:spcPts val="675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yp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Nombres à virgule-fixe sur 16 et 32 bi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Nombres complexes (16 et 32 bi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Vecteurs réels et complexes (16 et 32 bi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0">
              <a:spcBef>
                <a:spcPts val="601"/>
              </a:spcBef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675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mpatibilité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de compilable sous AVR32-GCC et IA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haque fonction a une version générique (codée en C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es algorithmes sont compatibles avec les types 16 bits et 32 bi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0">
              <a:spcBef>
                <a:spcPts val="601"/>
              </a:spcBef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675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ptimis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haque fonction a une version optimisée pour l’AVR32 UC3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ptions d’optimisation de l’algorithmiqu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n vitesse, en taille et en précision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0">
              <a:spcBef>
                <a:spcPts val="524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DEF8-700E-4DF2-8B7B-C01D5089BC69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i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400" spc="-1" strike="noStrike">
                <a:solidFill>
                  <a:srgbClr val="0060aa"/>
                </a:solidFill>
                <a:latin typeface="Arial Black"/>
              </a:rPr>
              <a:t>Gestion de projet</a:t>
            </a: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338472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-249120">
              <a:spcBef>
                <a:spcPts val="675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lanning prévisionn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iagramme de GANT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Mises à jours réguliè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0">
              <a:spcBef>
                <a:spcPts val="60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675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ycle en V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71640" y="3429000"/>
            <a:ext cx="5616360" cy="3240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780000" y="1628640"/>
            <a:ext cx="338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49120" indent="-249120">
              <a:lnSpc>
                <a:spcPct val="100000"/>
              </a:lnSpc>
              <a:spcBef>
                <a:spcPts val="675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lanning effect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160" indent="-269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Rapport hebdomadaire (Weekly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BD2A-23C9-4098-A4E0-979A51EA38E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i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400" spc="-1" strike="noStrike">
                <a:solidFill>
                  <a:srgbClr val="0060aa"/>
                </a:solidFill>
                <a:latin typeface="Arial Black"/>
              </a:rPr>
              <a:t>Développement (1)</a:t>
            </a: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4883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-249120">
              <a:lnSpc>
                <a:spcPct val="90000"/>
              </a:lnSpc>
              <a:spcBef>
                <a:spcPts val="675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rchitecture de la librairi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954000" y="2543040"/>
          <a:ext cx="6445440" cy="296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4000" y="2543040"/>
                    <a:ext cx="6445440" cy="29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DC50-090C-459C-8486-A91837B05A1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i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400" spc="-1" strike="noStrike">
                <a:solidFill>
                  <a:srgbClr val="0060aa"/>
                </a:solidFill>
                <a:latin typeface="Arial Black"/>
              </a:rPr>
              <a:t>Développement (2)</a:t>
            </a: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566640" y="1811160"/>
          <a:ext cx="5862600" cy="438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6640" y="1811160"/>
                    <a:ext cx="5862600" cy="438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37DD-4A7F-4E24-A7B9-60235F5DF745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i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400" spc="-1" strike="noStrike">
                <a:solidFill>
                  <a:srgbClr val="0060aa"/>
                </a:solidFill>
                <a:latin typeface="Arial Black"/>
              </a:rPr>
              <a:t>Développement (3) - 1</a:t>
            </a:r>
            <a:r>
              <a:rPr b="1" lang="fr-FR" sz="2400" spc="-1" strike="noStrike" baseline="30000">
                <a:solidFill>
                  <a:srgbClr val="0060aa"/>
                </a:solidFill>
                <a:latin typeface="Arial Black"/>
              </a:rPr>
              <a:t>ère</a:t>
            </a:r>
            <a:r>
              <a:rPr b="1" lang="fr-FR" sz="2400" spc="-1" strike="noStrike">
                <a:solidFill>
                  <a:srgbClr val="0060aa"/>
                </a:solidFill>
                <a:latin typeface="Arial Black"/>
              </a:rPr>
              <a:t> phase - Conception</a:t>
            </a: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705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Recherche de documentations sur les algorithmes utilisé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onception et validation des algorithmes avec l’outil Scilab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0">
              <a:spcBef>
                <a:spcPts val="675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3C69-97A0-483D-98E8-18ABC97B12B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i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60aa"/>
                </a:solidFill>
                <a:latin typeface="Arial Black"/>
              </a:rPr>
              <a:t>Développement (3) - 2</a:t>
            </a:r>
            <a:r>
              <a:rPr b="1" lang="fr-FR" sz="2000" spc="-1" strike="noStrike" baseline="30000">
                <a:solidFill>
                  <a:srgbClr val="0060aa"/>
                </a:solidFill>
                <a:latin typeface="Arial Black"/>
              </a:rPr>
              <a:t>ème</a:t>
            </a:r>
            <a:r>
              <a:rPr b="1" lang="fr-FR" sz="2000" spc="-1" strike="noStrike">
                <a:solidFill>
                  <a:srgbClr val="0060aa"/>
                </a:solidFill>
                <a:latin typeface="Arial Black"/>
              </a:rPr>
              <a:t> phase - Développement</a:t>
            </a:r>
            <a:endParaRPr b="1" lang="en-US" sz="20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7058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-249120">
              <a:lnSpc>
                <a:spcPct val="90000"/>
              </a:lnSpc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éveloppement des versions génériques (16 et 32 bits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dage de l’algorithme en C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ests et débogag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mparaisons des résultats avec ceux de la conception (Scilab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Utilisation d’outils personnalisé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36840" indent="-255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etits programmes codés en C sous Windows pour récupérer, extraire et afficher les résultats afin d’en faciliter l’analys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21135" t="13312" r="16362" b="34301"/>
          <a:stretch/>
        </p:blipFill>
        <p:spPr>
          <a:xfrm>
            <a:off x="5076720" y="4869000"/>
            <a:ext cx="2376720" cy="14922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79280" y="4437000"/>
            <a:ext cx="511200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536840" indent="-255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160" indent="-2696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dage de l’algorithme en C et en assembleu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160" indent="-2696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ests et débog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0160" indent="-198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e même que pour les versions génériqu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9280" y="3933720"/>
            <a:ext cx="76676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lvl="3" marL="1521360" indent="-25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46600" indent="-246600">
              <a:lnSpc>
                <a:spcPct val="100000"/>
              </a:lnSpc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éveloppement des versions optimisé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E6B8-D793-4069-9FFC-C0B7B4F2C8B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i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60aa"/>
                </a:solidFill>
                <a:latin typeface="Arial Black"/>
              </a:rPr>
              <a:t>Développement (4) - 2</a:t>
            </a:r>
            <a:r>
              <a:rPr b="1" lang="fr-FR" sz="2000" spc="-1" strike="noStrike" baseline="30000">
                <a:solidFill>
                  <a:srgbClr val="0060aa"/>
                </a:solidFill>
                <a:latin typeface="Arial Black"/>
              </a:rPr>
              <a:t>ème</a:t>
            </a:r>
            <a:r>
              <a:rPr b="1" lang="fr-FR" sz="2000" spc="-1" strike="noStrike">
                <a:solidFill>
                  <a:srgbClr val="0060aa"/>
                </a:solidFill>
                <a:latin typeface="Arial Black"/>
              </a:rPr>
              <a:t> phase - Développement</a:t>
            </a:r>
            <a:endParaRPr b="1" lang="en-US" sz="20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488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-249120">
              <a:lnSpc>
                <a:spcPct val="90000"/>
              </a:lnSpc>
              <a:spcBef>
                <a:spcPts val="675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dentification de bugs (liés aux outils principalement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Bugzill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lnSpc>
                <a:spcPct val="90000"/>
              </a:lnSpc>
              <a:spcBef>
                <a:spcPts val="675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roposition d’une nouvelle instruction à rajouter au jeu d’instruction de l’AVR32 UC3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div2hh.w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bdiv2hh.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ur l’exemple de la FFT, cette instruction ferait gagner jusqu’à 20% de temps d’exécution de l’algorithme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lnSpc>
                <a:spcPct val="90000"/>
              </a:lnSpc>
              <a:spcBef>
                <a:spcPts val="675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ésultat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48 fonctions codé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95280" y="4287960"/>
          <a:ext cx="7056360" cy="2190600"/>
        </p:xfrm>
        <a:graphic>
          <a:graphicData uri="http://schemas.openxmlformats.org/drawingml/2006/table">
            <a:tbl>
              <a:tblPr/>
              <a:tblGrid>
                <a:gridCol w="2096280"/>
                <a:gridCol w="2025720"/>
                <a:gridCol w="2934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dfc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gnes de cod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dfc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gnes de commentai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dfc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brairie basi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brairie avancé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mp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viron 60/jo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viron 30/jo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FD2C-3136-4D4E-81F0-D87E81A9867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i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400" spc="-1" strike="noStrike">
                <a:solidFill>
                  <a:srgbClr val="0060aa"/>
                </a:solidFill>
                <a:latin typeface="Arial Black"/>
              </a:rPr>
              <a:t>Benchmarks (1)</a:t>
            </a: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74883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Intérê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e positionner par rapport à la concurrenc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Valider la conception et le développemen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Out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Utilisation d’un script pour automatiser le processu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réation d’un fichier de configuration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mpilation du benchmark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Lancement du benchmark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Récupération des donnée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xploitation des donnée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36840" indent="-2556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xtractions des données importante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36840" indent="-2556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alcul du taux d’erreur avec un résultat de référenc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nregistrement des résultats du benchmark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70BD-B8AF-4816-8A5A-8F89E43D274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i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400" spc="-1" strike="noStrike">
                <a:solidFill>
                  <a:srgbClr val="0060aa"/>
                </a:solidFill>
                <a:latin typeface="Arial Black"/>
              </a:rPr>
              <a:t>Benchmarks (2)</a:t>
            </a: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74883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-249120">
              <a:lnSpc>
                <a:spcPct val="90000"/>
              </a:lnSpc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omparaison entre les versions génériques (codées en C) et optimisées des fonctions de la DSPLib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En pourcentage du temps mis pour exécuter la version générique de la fonction concerné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89000" y="2975040"/>
            <a:ext cx="7372440" cy="3362040"/>
            <a:chOff x="189000" y="2975040"/>
            <a:chExt cx="7372440" cy="3362040"/>
          </a:xfrm>
        </p:grpSpPr>
        <p:graphicFrame>
          <p:nvGraphicFramePr>
            <p:cNvPr id="156" name=""/>
            <p:cNvGraphicFramePr/>
            <p:nvPr/>
          </p:nvGraphicFramePr>
          <p:xfrm>
            <a:off x="189000" y="2975040"/>
            <a:ext cx="7372440" cy="32083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5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9000" y="2975040"/>
                      <a:ext cx="7372440" cy="3208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58" name="" descr=""/>
            <p:cNvPicPr/>
            <p:nvPr/>
          </p:nvPicPr>
          <p:blipFill>
            <a:blip r:embed="rId3"/>
            <a:stretch/>
          </p:blipFill>
          <p:spPr>
            <a:xfrm>
              <a:off x="2987640" y="6060960"/>
              <a:ext cx="936720" cy="276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79B0-CC94-452E-9BB1-FC2AFFAD473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i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400" spc="-1" strike="noStrike">
                <a:solidFill>
                  <a:srgbClr val="0060aa"/>
                </a:solidFill>
                <a:latin typeface="Arial Black"/>
              </a:rPr>
              <a:t>Sommaire</a:t>
            </a: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488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résentation de l’entrepri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pécifications des produits AVR32 UC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résentation de la « Software Framework »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ahier des char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pécifications de la DSPLi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Gestion de proj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évelopp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Benchmar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ppor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FB41-B965-4C6F-8F83-70868BFF70B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i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400" spc="-1" strike="noStrike">
                <a:solidFill>
                  <a:srgbClr val="0060aa"/>
                </a:solidFill>
                <a:latin typeface="Arial Black"/>
              </a:rPr>
              <a:t>Benchmarks (3) – FFT</a:t>
            </a: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60" name=""/>
          <p:cNvSpPr/>
          <p:nvPr/>
        </p:nvSpPr>
        <p:spPr>
          <a:xfrm>
            <a:off x="179280" y="1628640"/>
            <a:ext cx="7364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49120" indent="-249120">
              <a:lnSpc>
                <a:spcPct val="100000"/>
              </a:lnSpc>
              <a:spcBef>
                <a:spcPts val="675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mparaison des performances avec la concurren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01520" y="2419200"/>
            <a:ext cx="7566120" cy="3601800"/>
            <a:chOff x="101520" y="2419200"/>
            <a:chExt cx="7566120" cy="3601800"/>
          </a:xfrm>
        </p:grpSpPr>
        <p:grpSp>
          <p:nvGrpSpPr>
            <p:cNvPr id="162" name=""/>
            <p:cNvGrpSpPr/>
            <p:nvPr/>
          </p:nvGrpSpPr>
          <p:grpSpPr>
            <a:xfrm>
              <a:off x="101520" y="2419200"/>
              <a:ext cx="7276680" cy="2207520"/>
              <a:chOff x="101520" y="2419200"/>
              <a:chExt cx="7276680" cy="2207520"/>
            </a:xfrm>
          </p:grpSpPr>
          <p:graphicFrame>
            <p:nvGraphicFramePr>
              <p:cNvPr id="163" name=""/>
              <p:cNvGraphicFramePr/>
              <p:nvPr/>
            </p:nvGraphicFramePr>
            <p:xfrm>
              <a:off x="272880" y="2419200"/>
              <a:ext cx="7105320" cy="105696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164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72880" y="2419200"/>
                        <a:ext cx="7105320" cy="1056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65" name=""/>
              <p:cNvGraphicFramePr/>
              <p:nvPr/>
            </p:nvGraphicFramePr>
            <p:xfrm>
              <a:off x="101520" y="3350880"/>
              <a:ext cx="6981480" cy="1275840"/>
            </p:xfrm>
            <a:graphic>
              <a:graphicData uri="http://schemas.openxmlformats.org/presentationml/2006/ole">
                <p:oleObj progId="Excel.Sheet.12" r:id="rId3" spid="">
                  <p:embed/>
                  <p:pic>
                    <p:nvPicPr>
                      <p:cNvPr id="16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01520" y="3350880"/>
                        <a:ext cx="6981480" cy="1275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167" name=""/>
            <p:cNvGrpSpPr/>
            <p:nvPr/>
          </p:nvGrpSpPr>
          <p:grpSpPr>
            <a:xfrm>
              <a:off x="155520" y="4411440"/>
              <a:ext cx="7512120" cy="1609560"/>
              <a:chOff x="155520" y="4411440"/>
              <a:chExt cx="7512120" cy="1609560"/>
            </a:xfrm>
          </p:grpSpPr>
          <p:graphicFrame>
            <p:nvGraphicFramePr>
              <p:cNvPr id="168" name=""/>
              <p:cNvGraphicFramePr/>
              <p:nvPr/>
            </p:nvGraphicFramePr>
            <p:xfrm>
              <a:off x="155520" y="4411440"/>
              <a:ext cx="7512120" cy="1609560"/>
            </p:xfrm>
            <a:graphic>
              <a:graphicData uri="http://schemas.openxmlformats.org/presentationml/2006/ole">
                <p:oleObj progId="Excel.Sheet.12" r:id="rId5" spid="">
                  <p:embed/>
                  <p:pic>
                    <p:nvPicPr>
                      <p:cNvPr id="169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55520" y="4411440"/>
                        <a:ext cx="7512120" cy="1609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70" name=""/>
              <p:cNvSpPr/>
              <p:nvPr/>
            </p:nvSpPr>
            <p:spPr>
              <a:xfrm>
                <a:off x="754200" y="4468320"/>
                <a:ext cx="2334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fr-FR" sz="1000" spc="-1" strike="noStrike">
                    <a:solidFill>
                      <a:srgbClr val="000000"/>
                    </a:solidFill>
                    <a:latin typeface="Arial"/>
                  </a:rPr>
                  <a:t>Aucune donnée disponible pour dsPI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9D48-8F70-4E13-A98B-91B5AC6CDD2F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i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400" spc="-1" strike="noStrike">
                <a:solidFill>
                  <a:srgbClr val="0060aa"/>
                </a:solidFill>
                <a:latin typeface="Arial Black"/>
              </a:rPr>
              <a:t>Benchmarks (4) – Filtres IIR</a:t>
            </a: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525600" y="2525760"/>
          <a:ext cx="6580080" cy="314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600" y="2525760"/>
                    <a:ext cx="6580080" cy="31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179280" y="1628640"/>
            <a:ext cx="7364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49120" indent="-249120">
              <a:lnSpc>
                <a:spcPct val="100000"/>
              </a:lnSpc>
              <a:spcBef>
                <a:spcPts val="675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mparaison des performances avec la concurren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A315-0967-4C1F-8783-4F9765D66B24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i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400" spc="-1" strike="noStrike">
                <a:solidFill>
                  <a:srgbClr val="0060aa"/>
                </a:solidFill>
                <a:latin typeface="Arial Black"/>
              </a:rPr>
              <a:t>Benchmarks (5) – Filtres IIR</a:t>
            </a: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76" name=""/>
          <p:cNvSpPr/>
          <p:nvPr/>
        </p:nvSpPr>
        <p:spPr>
          <a:xfrm>
            <a:off x="179280" y="1628640"/>
            <a:ext cx="7364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49120" indent="-249120">
              <a:lnSpc>
                <a:spcPct val="100000"/>
              </a:lnSpc>
              <a:spcBef>
                <a:spcPts val="675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mparaison des performances avec la concurren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306360" y="2325600"/>
          <a:ext cx="6515280" cy="4610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6360" y="2325600"/>
                    <a:ext cx="6515280" cy="46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ACB5-BBBC-49A7-8932-74EC7BBAC81D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i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400" spc="-1" strike="noStrike">
                <a:solidFill>
                  <a:srgbClr val="0060aa"/>
                </a:solidFill>
                <a:latin typeface="Arial Black"/>
              </a:rPr>
              <a:t>Benchmarks (6) – « TI Bench »</a:t>
            </a: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488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Benchmark proposant de multiples code sources permettant d’évaluer globalement les performances d’un microcontrôleu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T.I. fournit aussi les résultats du « TI Bench » exécuté sur de nombreux microcontrôleurs: dsPIC, ARM7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xploitation des résult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Bien placé par rapport à la concurrence dans l’ensembl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auvaise gestion des nombres à virgules-flottant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9381-B53D-4031-978B-0CCD9571154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i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400" spc="-1" strike="noStrike">
                <a:solidFill>
                  <a:srgbClr val="0060aa"/>
                </a:solidFill>
                <a:latin typeface="Arial Black"/>
              </a:rPr>
              <a:t>Documentation</a:t>
            </a: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488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Tout le code est documenté en Doxygen, de même pour chacun des exempl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Réalisation d’une documentation complète appelée « profile » pour les fonctions important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réation de « readme.html » permettant de naviguer rapidement dans l’architecture de la librairie et d’en ressortir les fonctionnalités principal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0">
              <a:spcBef>
                <a:spcPts val="751"/>
              </a:spcBef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E0D3-272C-4078-B604-4732B718BBB9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i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400" spc="-1" strike="noStrike">
                <a:solidFill>
                  <a:srgbClr val="0060aa"/>
                </a:solidFill>
                <a:latin typeface="Arial Black"/>
              </a:rPr>
              <a:t>Apports</a:t>
            </a: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488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-249120">
              <a:spcBef>
                <a:spcPts val="675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our l’entrepri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éveloppement d’une librairie complète de traitement du signal optimisée pour l’AVR32 UC3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Référencement de différents bugs (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roposition d’amélioration du cœur AVR32 UC3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Réalisation de petits travaux: TI Bench, présentation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0">
              <a:spcBef>
                <a:spcPts val="60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675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our mo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rogrès en optimisation d’algorithme et de code (assembleur et C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rogrès en traitement du signal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Rédaction de documentations techniques destinées aux clients et aux usages interne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llaboration avec d’autres ingénieur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nduite d’un projet complet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0">
              <a:spcBef>
                <a:spcPts val="60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94EB-76AA-484B-81FF-5D36C1F41FA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i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400" spc="-1" strike="noStrike">
                <a:solidFill>
                  <a:srgbClr val="0060aa"/>
                </a:solidFill>
                <a:latin typeface="Arial Black"/>
              </a:rPr>
              <a:t>Spécifications des produits AVR32 UC3 (1)</a:t>
            </a: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488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Faible consomm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ispose de mémoire FLAS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ecture/Ecriture de la SRAM interne en 1 cyc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e nombreuses fonctionnalités don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Full speed USB 2.0 OT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thernet 10/100 Mbits (*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ultiples canaux DM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Jeu d’instructions DS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1.3 Dhrystone MIPS/MHz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0">
              <a:spcBef>
                <a:spcPts val="751"/>
              </a:spcBef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181400" y="3860640"/>
            <a:ext cx="2879640" cy="20545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79280" y="6197760"/>
            <a:ext cx="72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*) Pour la série A uniqu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0051-B64B-4DB6-A5DD-998973B7FE8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i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400" spc="-1" strike="noStrike">
                <a:solidFill>
                  <a:srgbClr val="0060aa"/>
                </a:solidFill>
                <a:latin typeface="Arial Black"/>
              </a:rPr>
              <a:t>Spécifications des produits AVR32 UC3 (2)</a:t>
            </a: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488360" cy="27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3 étages de pipelin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refetc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ré-chargement d’une instruction 32 bits ou de deux de 16 bits tous les cycles d’horlo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e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écodage de l’instruction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xecu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3 sous-sections: ALU, Multiplication, Lecture/Ecritur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9120"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84360" y="4365720"/>
            <a:ext cx="5153040" cy="244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1040-D3B4-4FFA-ACE9-95C2CA7B563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i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400" spc="-1" strike="noStrike">
                <a:solidFill>
                  <a:srgbClr val="0060aa"/>
                </a:solidFill>
                <a:latin typeface="Arial Black"/>
              </a:rPr>
              <a:t>Spécifications des produits AVR32 UC3 (3)</a:t>
            </a: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488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Instruc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ecture/Ecri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accès aux données de 8, 16, 32 ou 64 bits avec différents modes d’adress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structions DSP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MAC, MUL, ADD/SUB avec décalages et arrondi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9120"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Mode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écanismes de protection de la mémoire (MPU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0">
              <a:spcBef>
                <a:spcPts val="675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Faible densité du cod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20% plus performant que l’ARM7 (Thumb) ou le Cortex M3 (Thumb2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9120" indent="0">
              <a:spcBef>
                <a:spcPts val="751"/>
              </a:spcBef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06E9-89A6-4932-A0D4-FB655500FA9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i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400" spc="-1" strike="noStrike">
                <a:solidFill>
                  <a:srgbClr val="0060aa"/>
                </a:solidFill>
                <a:latin typeface="Arial Black"/>
              </a:rPr>
              <a:t>Présentation de la « Software Framework » </a:t>
            </a: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366732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-249120">
              <a:lnSpc>
                <a:spcPct val="90000"/>
              </a:lnSpc>
              <a:spcBef>
                <a:spcPts val="675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Une librairie comportant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es drive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ournissant une interface permettant de faire abstraction des périphériques du microcontrôleur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es servic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Un ensemble de sous-librairies haut niveau (c’est dans ce module qu’intervient la DSPLib)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es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es exemples complets utilisant les services et les drivers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826920" y="5373720"/>
            <a:ext cx="3024360" cy="115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6" name=""/>
          <p:cNvGraphicFramePr/>
          <p:nvPr/>
        </p:nvGraphicFramePr>
        <p:xfrm>
          <a:off x="4264200" y="1677960"/>
          <a:ext cx="3236760" cy="4514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64200" y="1677960"/>
                    <a:ext cx="3236760" cy="45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60C5-7EAC-4997-9418-DEAAE8D7EA7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i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400" spc="-1" strike="noStrike">
                <a:solidFill>
                  <a:srgbClr val="0060aa"/>
                </a:solidFill>
                <a:latin typeface="Arial Black"/>
              </a:rPr>
              <a:t>Cahier des charges</a:t>
            </a: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488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onception d’une librairie de traitement du signal </a:t>
            </a: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optimisée pour l’AVR32 UC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dentifier et spécifier les principales fonctions de traitement du signal à intégrer dans la librairi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évelopper la librairie et l’intégrer dans un environnement déjà existan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ptimiser au mieux les fonctions en exploitant toutes les ressources du microcontrôleu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ffectuer des tests de performances sur les différentes fonctions de la librairie et les comparer avec la concurrenc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0">
              <a:spcBef>
                <a:spcPts val="675"/>
              </a:spcBef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5EAE-E752-444B-81C5-B90B573CB30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i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400" spc="-1" strike="noStrike">
                <a:solidFill>
                  <a:srgbClr val="0060aa"/>
                </a:solidFill>
                <a:latin typeface="Arial Black"/>
              </a:rPr>
              <a:t>Prise en main</a:t>
            </a: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488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éveloppement du driver RT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rise en main des logiciels - AVR32-GNU tool chain, IAR, Tortoise SV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0">
              <a:spcBef>
                <a:spcPts val="675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0">
              <a:spcBef>
                <a:spcPts val="675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0">
              <a:spcBef>
                <a:spcPts val="675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0">
              <a:spcBef>
                <a:spcPts val="675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rise en main du matériel – JTAG ICE mkII, EVK1100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971640" y="2714760"/>
            <a:ext cx="1371600" cy="12189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363840" y="2852640"/>
            <a:ext cx="1352520" cy="8953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rcRect l="6966" t="0" r="0" b="0"/>
          <a:stretch/>
        </p:blipFill>
        <p:spPr>
          <a:xfrm>
            <a:off x="5796000" y="2719440"/>
            <a:ext cx="1200240" cy="12859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432080" y="2786040"/>
            <a:ext cx="1487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432080" y="2786040"/>
            <a:ext cx="1465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432080" y="2786040"/>
            <a:ext cx="119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1328760" y="4437000"/>
            <a:ext cx="2235240" cy="2160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rcRect l="16998" t="4316" r="17137" b="5393"/>
          <a:stretch/>
        </p:blipFill>
        <p:spPr>
          <a:xfrm>
            <a:off x="4102200" y="4581360"/>
            <a:ext cx="2054160" cy="1876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F9F1-F361-4C0A-8007-ADCA3F2FCDF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i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2400" spc="-1" strike="noStrike">
                <a:solidFill>
                  <a:srgbClr val="0060aa"/>
                </a:solidFill>
                <a:latin typeface="Arial Black"/>
              </a:rPr>
              <a:t>Spécifications de la DSPLib (1)</a:t>
            </a: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48836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-249120">
              <a:lnSpc>
                <a:spcPct val="90000"/>
              </a:lnSpc>
              <a:spcBef>
                <a:spcPts val="675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éth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Recherche auprès de la concurrence directe (1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STMicroelectronics </a:t>
            </a:r>
            <a:r>
              <a:rPr b="0" lang="fr-FR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« STR91x DSP library »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icrochip </a:t>
            </a:r>
            <a:r>
              <a:rPr b="0" lang="fr-FR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« dsPIC DSC DSP Algorithm library »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Recherche auprès de la concurrence indirecte (2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exas Instrument </a:t>
            </a:r>
            <a:r>
              <a:rPr b="0" lang="fr-FR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« TMS320C64x DSP library »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Recherche auprès des librairies disponibles sur Interne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umerix </a:t>
            </a:r>
            <a:r>
              <a:rPr b="0" lang="fr-FR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« SigLib DSP library »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Recherche auprès des cl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ar l’intermédiaire d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égis Latawiec (marketeur du produit)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540480" y="2790720"/>
            <a:ext cx="824040" cy="7016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rcRect l="0" t="16226" r="0" b="18015"/>
          <a:stretch/>
        </p:blipFill>
        <p:spPr>
          <a:xfrm>
            <a:off x="6516720" y="1989000"/>
            <a:ext cx="984240" cy="6573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79280" y="5589720"/>
            <a:ext cx="718524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es concurrents dont le produit est équivalent à l’AVR32 UC3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es concurrents mais dont le produit concerné n’est pas comparable avec l’AVR32 UC3 mais qui fournissent eux aussi une librairie DS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5940360" y="4255920"/>
            <a:ext cx="1584360" cy="5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CF27-1FFC-42E4-8658-05E0659B766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in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06:23:51Z</dcterms:created>
  <dc:creator>Régis Latawiec</dc:creator>
  <dc:description/>
  <dc:language>en-US</dc:language>
  <cp:lastModifiedBy>user</cp:lastModifiedBy>
  <dcterms:modified xsi:type="dcterms:W3CDTF">2007-07-02T14:27:57Z</dcterms:modified>
  <cp:revision>1511</cp:revision>
  <dc:subject/>
  <dc:title>AVR32 - UC3000 Product Line Intr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