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94A-38C0-40D8-B44B-27AA924B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A49-6D56-4CA2-8536-419233DE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69B-2DBD-405B-A633-1CB924D1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177-077F-4AD4-9DE1-3D17B668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5FCA-563D-4819-A530-3DDE9E61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BE5-EDDE-4EDD-B088-D26E591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8C4F-7CB0-4320-BB38-AD5033C2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BCE-A408-4F86-BE83-1B74856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E263-FE70-45A4-A32B-1516D95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3EB9-13C6-42F1-B6BE-7A17514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4C23-1426-4F99-AA17-200B3DF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839-73C5-4E9D-9BB0-BD6FDD7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04C8-88AB-421A-B1C5-388C8054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0EE1-EAE9-4236-92D3-C31F78E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07A-CE96-451E-8969-E7358F1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75A5-C1F9-4810-9EE0-F1F5772D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DF1-1AF9-41D1-9A2A-2B34190E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B76-A62F-4BC4-8AA2-B6CA3610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F24-F5DD-40B9-B6D9-21B83F6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FDB-7BAE-4DE5-8F34-3DEE35C1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0B6-8194-42E5-AD16-F4B8738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716-ECC6-4A6D-AD85-6602D7D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D16-65D5-49F6-A92E-B9D86BD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7C3-6F05-4278-A93C-8B6D607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D16-1E1A-4657-9E68-1303A4374B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6C0-DB37-4DAF-A464-248B7C4F9D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90720"/>
            <a:ext cx="70866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  <a:ea typeface="Arial"/>
              </a:rPr>
              <a:t>VBA-Makros für PowerPoint 2000 </a:t>
            </a:r>
            <a:r>
              <a:rPr b="0" lang="en-US" sz="1200" spc="-1" strike="noStrike" baseline="30000">
                <a:solidFill>
                  <a:srgbClr val="40458c"/>
                </a:solidFill>
                <a:latin typeface="Arial"/>
                <a:ea typeface="Arial"/>
              </a:rPr>
              <a:t>© 2000, Ralf Nebel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62120" y="1752480"/>
            <a:ext cx="6037200" cy="1838520"/>
            <a:chOff x="762120" y="1752480"/>
            <a:chExt cx="6037200" cy="1838520"/>
          </a:xfrm>
        </p:grpSpPr>
        <p:grpSp>
          <p:nvGrpSpPr>
            <p:cNvPr id="209" name=""/>
            <p:cNvGrpSpPr/>
            <p:nvPr/>
          </p:nvGrpSpPr>
          <p:grpSpPr>
            <a:xfrm>
              <a:off x="766800" y="1757520"/>
              <a:ext cx="6027840" cy="1828800"/>
              <a:chOff x="766800" y="1757520"/>
              <a:chExt cx="6027840" cy="1828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6800" y="1757520"/>
                <a:ext cx="6027840" cy="609480"/>
                <a:chOff x="766800" y="1757520"/>
                <a:chExt cx="6027840" cy="609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6800" y="1757520"/>
                  <a:ext cx="6027840" cy="609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66800" y="1757520"/>
                  <a:ext cx="6027840" cy="609480"/>
                  <a:chOff x="766800" y="1757520"/>
                  <a:chExt cx="6027840" cy="6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811080" y="1757520"/>
                    <a:ext cx="5938920" cy="609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MAKRO</a:t>
                    </a: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66800" y="1757520"/>
                    <a:ext cx="602784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766800" y="2367000"/>
                <a:ext cx="1844640" cy="1219320"/>
                <a:chOff x="766800" y="2367000"/>
                <a:chExt cx="1844640" cy="1219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11080" y="2367000"/>
                  <a:ext cx="17560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XLBlattEinfüge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66800" y="2367000"/>
                  <a:ext cx="1844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11440" y="2367000"/>
                <a:ext cx="4183200" cy="1219320"/>
                <a:chOff x="2611440" y="2367000"/>
                <a:chExt cx="4183200" cy="12193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656080" y="2367000"/>
                  <a:ext cx="40939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Fügt ein Arbeitsmappenblatt (Diagramm oder Tabelle) aus einer per Dialogfeld wählbaren XLS-Datei als neue Folie ein.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11440" y="2367000"/>
                  <a:ext cx="41832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762120" y="1752480"/>
              <a:ext cx="6037200" cy="183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780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Makro starte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6:57:01Z</dcterms:created>
  <dc:creator>Ralf Nebelo</dc:creator>
  <dc:description/>
  <dc:language>en-US</dc:language>
  <cp:lastModifiedBy>Ralf Nebelo</cp:lastModifiedBy>
  <dcterms:modified xsi:type="dcterms:W3CDTF">2000-04-04T12:30:56Z</dcterms:modified>
  <cp:revision>41</cp:revision>
  <dc:subject/>
  <dc:title>PowerPoint-Präsentation</dc:title>
</cp:coreProperties>
</file>